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F38-4BD2-4A11-A72B-95DBB8F4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FCF-4B4F-492D-BAE7-E0A7F30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D94-DFD9-4908-8D9E-91F91483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C83-786D-4C29-BEB8-A46EA66B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FDF4D-08F3-43D9-8DAD-70AB660C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0AD1-69C9-4801-8071-FEF59FB1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ADB28-CA87-4576-AB2D-1C8AD472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6E782-A277-4694-B7F1-57419EC7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C14A2-0854-4E2E-9421-744593C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7990-7DFA-4D86-B363-D9A5EEF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4BD3-D1A2-42A5-98D7-9EB803A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EAD-695E-4146-8075-96DE1AA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E6BFF-FAB0-467B-BAF0-118EAB1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F8BC9-3F15-4FF5-9B92-96FDF2A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A586-704C-4A54-92D2-00EA0834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D3D4-7C72-4A1D-BD19-C8244DF6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FC6F-6571-469D-9A22-55648A4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C0A-1844-49C4-99B3-F1FED02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C3E-9A97-45ED-84D6-4F90A59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5E1-4E4B-4394-A303-8F061C79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888-ED0C-4E8B-ACB9-8AE1EC9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C9D-C428-4D41-BD19-9884E99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26E-D1C3-4EE1-BCFA-166FC7D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5F5-B091-4BEB-8624-EDB1C16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2A1-E469-4E55-952E-6B4772B88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B44-D419-419F-A393-40E3089C2D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ция Юдинского сельского поселения Подгоренского муниципального района Воронеж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ЮДЖЕТ ДЛЯ ГРАЖДАН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на 2021 и плановый период 2022 и 2023 г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муниципальная программ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ая программа – система мероприятий, взаимоувязанных по задачам, срокам осуществления и ресурсам, направленных на достижение конкретных целей муниципальной политики в определенной сфере социально-экономического развития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целях повышения эффективности и результативности бюджетных расходов администрации Юдинского сельского поселения принято решение: формировать и исполнять расходную часть бюджета через реализацию одной муниципальной программы. Бюджет Юдинского сельского поселения на 2021- 2023 годы – ЯВЛЯЕТСЯ ПРОГРАММ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, направленные на достижение заданного результата. При этом значение показателей является индикатором по данному направлению деятельности и сигнализирует о плохом или хорошем результате, необходимости принятия новых решений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ая программа «Организация деятельности администрации Юдинского сельского поселения Подгоренского муниципального района Воронежской области » на 2021-2023 г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125360"/>
          <a:ext cx="8291520" cy="5381640"/>
        </p:xfrm>
        <a:graphic>
          <a:graphicData uri="http://schemas.openxmlformats.org/drawingml/2006/table">
            <a:tbl>
              <a:tblPr/>
              <a:tblGrid>
                <a:gridCol w="1790640"/>
                <a:gridCol w="3113280"/>
                <a:gridCol w="1128600"/>
                <a:gridCol w="1130400"/>
                <a:gridCol w="1128600"/>
              </a:tblGrid>
              <a:tr h="764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униципальной программы, подпрограммы, основного меропри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по годам реализации муниципальной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1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ая програм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рганизация деятельности администрации Юдинского сельского поселения Подгоренского муниципального района Воронежской области на 2020-2022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5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7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5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Создание условий для обеспечения качественными услугами ЖКХ населения в  Юдинском сельском поселени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3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 в области национальной экономике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Защита населения и территории Юдинского сельского поселения от чрезвычайных ситуаций, обеспечение пожарной безопасности и безопасности людей на водных объектах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Финансовое обеспечение  переданных полномочий и исполнение полномочий по мобилизационной и вневойсковой подготовке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6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1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беспечение деятельности администрации Юдинского сельского поселения  Подгоренского муниципального района Воронежской област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3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4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814716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«БЮДЖЕТ ДЛЯ ГРАЖДАН»?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юджет для граждан» познакомит Вас с положениями бюджета основного финансового документа Администрации Юдинского сельского поселения на 2021 год и плановый период 2022 и 2023 го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житель села является участником формирования бюджета с одной стороны, как налогоплательщик, наполняя доходы бюджета, с другой- он получает часть расходов как потребитель общественных усл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е – и как налогоплательщики и как потребители общественных благ-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пенсионерам и другим категориям населения, так как бюджет муниципалитета затрагивает интересы каждого жителя посел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ОЗРАЧНОСТИ (ОТКРЫТОСТИ) БЮДЖЕТНОЙ СИСТЕМЫ РОССИЙСКОЙ ФЕДЕРАЦИИ ОЗНАЧ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362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е опубликование в средствах массовой информации утвержденных бюджетов и отчетов об их испол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ая открытость для общества и средств массовой информации бюджета, обеспечение доступа к информации на едином портале бюджетной системы Российской Федерации в сети «Интер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бильность и преемственность бюджетной классификации Российской Федерации, а также обеспечение сопоставимости показателей бюджета отчетного, текущего и очередного финансового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ный кодекс Российской Федерации, статья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ПРОЕКТА БЮДЖЕТА ЮДИНСКОГО СЕЛЬСКОГО ПОСЕЛЕНИЯ ОСНОВЫВАЕТСЯ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юджетном послании Президента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е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х направления бюджетной и налоговой поли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ниципальных программ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 Юдинского сельского поселения на 2021 год и плановый период 2022 и 2023 годов сформирован в программном форма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бюджетной и налоговой политики на 2021 год и плановый период 2022 и 2023 г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ение бюджетной устойчивости на 2021 год и среднесрочную перспективу бюджета Юд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достижения цели бюджетной политики предстоит реализовать комплекс мер, направленных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изацию мер по созданию условий для наращивания налогового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истемы муниципа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информационных ресурсов в целях прозрачности и открытости бюджетного процесса, для удовлетворения информационной потребности граждан и организ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араметры проекта бюджета Юдинского сельского поселения на 2021 год и плановый период 2022 и 2023 годов.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7715160" cy="3652560"/>
        </p:xfrm>
        <a:graphic>
          <a:graphicData uri="http://schemas.openxmlformats.org/drawingml/2006/table">
            <a:tbl>
              <a:tblPr/>
              <a:tblGrid>
                <a:gridCol w="2373480"/>
                <a:gridCol w="1741320"/>
                <a:gridCol w="1871640"/>
                <a:gridCol w="1728720"/>
              </a:tblGrid>
              <a:tr h="505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юдж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1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3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5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3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3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3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2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5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3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фицит (-),           Профицит 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Ы БЮДЖ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Organization Chart 7"/>
          <p:cNvGrpSpPr/>
          <p:nvPr/>
        </p:nvGrpSpPr>
        <p:grpSpPr>
          <a:xfrm>
            <a:off x="0" y="1341360"/>
            <a:ext cx="9143280" cy="5515200"/>
            <a:chOff x="0" y="1341360"/>
            <a:chExt cx="9143280" cy="551520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61960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71280" y="3547440"/>
              <a:ext cx="3960" cy="11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41956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200040" y="134136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ходы бюджета-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езвозмездные и безвозврат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оступления денежных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редств в бюджет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 налог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налоговым кодекс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доходы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Единый сельскохозяйствен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имущество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емель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Государственная пошлин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2000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е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еналоговых доход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законодательств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, получаемые от аренда  имущества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земли, находящихся в государственной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муниципальной собственност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 от продажи муниципальног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мущества и земельных участков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*Штрафы за нарушени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онодательств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4004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Безвозмездные поступления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из бюджето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вышестоящих уровней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чие поступления от организаций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Диаграмма 2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6709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ходы бюджета Юдинского сельского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836640"/>
          <a:ext cx="8642160" cy="5654520"/>
        </p:xfrm>
        <a:graphic>
          <a:graphicData uri="http://schemas.openxmlformats.org/drawingml/2006/table">
            <a:tbl>
              <a:tblPr/>
              <a:tblGrid>
                <a:gridCol w="2347920"/>
                <a:gridCol w="2081160"/>
                <a:gridCol w="2052720"/>
                <a:gridCol w="216036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здела (подраздел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(без учета условно утвержденны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5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7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5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24:07Z</dcterms:created>
  <dc:creator>aGaVVa_UTSetup</dc:creator>
  <dc:description/>
  <dc:language>en-US</dc:language>
  <cp:lastModifiedBy>Администратор</cp:lastModifiedBy>
  <dcterms:modified xsi:type="dcterms:W3CDTF">2020-12-09T06:23:53Z</dcterms:modified>
  <cp:revision>62</cp:revision>
  <dc:subject/>
  <dc:title>Администрация Сагуновского сельского поселения Подгоренского муниципального района Воронежской области</dc:title>
</cp:coreProperties>
</file>