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68E-2CBB-4984-AF13-537E2CBF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320-5A9A-43E9-887A-9964892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C4C-889C-4129-8E18-1C639474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809-378E-48DF-9B63-19641F1B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59FC-8B5C-4FC1-9915-2DECC6BF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AF3BF-3F32-4C6B-A10C-0839C33A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362D1-9B98-4EDE-AD65-1CCED99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15A7-0022-4635-9C49-A3C7115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BDA42-074F-40DD-99C8-D1F6EA6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5F101-9B67-4721-AC09-1E56B731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8D5DF-AE1F-4F3A-920F-8B99619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020-A631-474A-B6A9-DCF9AD86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6D87C-E3A4-42D5-B1B5-7BB85D3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E1EB-4EA6-43D7-8428-2D4EFE0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AAB0-D791-4528-8068-530A3437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2CEFE-774B-489F-A479-A60B9583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BA18-8A0A-4531-9B9F-E27A379E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84F-6A11-45DA-B4BD-73349678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CB9-2F48-49C3-A275-CAF42A8A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2C4-F8BF-46F6-AB91-FD7FD19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7DE-4FF7-427A-ADB2-8B4C8A2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F22-40A0-4A80-A98E-FFE3E10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801-051E-4406-A86C-5CE78E8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FDA-7D5C-4790-96D8-E055214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FEC3-9A6C-411F-B8AF-030676DB5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78A-C7C3-4DD9-A6A4-04708F33FA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ция Юдинского сельского поселения Подгоренского муниципального района Воронеж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ЮДЖЕТ ДЛЯ ГРАЖДАН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на 2020 и плановый период 2021 и 2022 г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муниципальная программ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ая программа – система мероприятий, взаимоувязанных по задачам, срокам осуществления и ресурсам, направленных на достижение конкретных целей муниципальной политики в определенной сфере социально-экономического развития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целях повышения эффективности и результативности бюджетных расходов администрации Юдинского сельского поселения принято решение: формировать и исполнять расходную часть бюджета через реализацию одной муниципальной программы. Бюджет Юдинского сельского поселения на 2020- 2022 годы – ЯВЛЯЕТСЯ ПРОГРАММ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, направленные на достижение заданного результата. При этом значение показателей является индикатором по данному направлению деятельности и сигнализирует о плохом или хорошем результате, необходимости принятия новых решений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ая программа «Организация деятельности администрации Юдинского сельского поселения Подгоренского муниципального района Воронежской области » на 2020-2022 г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125360"/>
          <a:ext cx="8291520" cy="5381640"/>
        </p:xfrm>
        <a:graphic>
          <a:graphicData uri="http://schemas.openxmlformats.org/drawingml/2006/table">
            <a:tbl>
              <a:tblPr/>
              <a:tblGrid>
                <a:gridCol w="1790640"/>
                <a:gridCol w="3113280"/>
                <a:gridCol w="1128600"/>
                <a:gridCol w="1130400"/>
                <a:gridCol w="1128600"/>
              </a:tblGrid>
              <a:tr h="764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униципальной программы, подпрограммы, основного меропри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по годам реализации муниципальной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0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ая програм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рганизация деятельности администрации Юдинского сельского поселения Подгоренского муниципального района Воронежской области на 2020-2022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29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7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5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Создание условий для обеспечения качественными услугами ЖКХ населения в  Юдинском сельском поселени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6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 в области национальной экономике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2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Защита населения и территории Юдинского сельского поселения от чрезвычайных ситуаций, обеспечение пожарной безопасности и безопасности людей на водных объектах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Финансовое обеспечение  переданных полномочий и исполнение полномочий по мобилизационной и вневойсковой подготовке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86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1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беспечение деятельности администрации Юдинского сельского поселения  Подгоренского муниципального района Воронежской област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83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3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43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814716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«БЮДЖЕТ ДЛЯ ГРАЖДАН»?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юджет для граждан» познакомит Вас с положениями бюджета основного финансового документа Администрации Юдинского сельского поселения на 2020 год и плановый период 2021 и 2022 го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житель села является участником формирования бюджета с одной стороны, как налогоплательщик, наполняя доходы бюджета, с другой- он получает часть расходов как потребитель общественных усл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е – и как налогоплательщики и как потребители общественных благ-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пенсионерам и другим категориям населения, так как бюджет муниципалитета затрагивает интересы каждого жителя посел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ОЗРАЧНОСТИ (ОТКРЫТОСТИ) БЮДЖЕТНОЙ СИСТЕМЫ РОССИЙСКОЙ ФЕДЕРАЦИИ ОЗНАЧ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362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е опубликование в средствах массовой информации утвержденных бюджетов и отчетов об их испол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ая открытость для общества и средств массовой информации бюджета, обеспечение доступа к информации на едином портале бюджетной системы Российской Федерации в сети «Интер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бильность и преемственность бюджетной классификации Российской Федерации, а также обеспечение сопоставимости показателей бюджета отчетного, текущего и очередного финансового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ный кодекс Российской Федерации, статья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ПРОЕКТА БЮДЖЕТА ЮДИНСКОГО СЕЛЬСКОГО ПОСЕЛЕНИЯ ОСНОВЫВАЕТСЯ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юджетном послании Президента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е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х направления бюджетной и налоговой поли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ниципальных программ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 Юдинского сельского поселения на 2020 год и плановый период 2021 и 2022 годов сформирован в программном форма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бюджетной и налоговой политики на 2020 год и плановый период 2021 и 2022 г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ение бюджетной устойчивости на 2020 год и среднесрочную перспективу бюджета Юд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достижения цели бюджетной политики предстоит реализовать комплекс мер, направленных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изацию мер по созданию условий для наращивания налогового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истемы муниципа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информационных ресурсов в целях прозрачности и открытости бюджетного процесса, для удовлетворения информационной потребности граждан и организ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араметры проекта бюджета Юдинского сельского поселения на 2020 год и плановый период 2021 и 2022 годов.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7715160" cy="3652560"/>
        </p:xfrm>
        <a:graphic>
          <a:graphicData uri="http://schemas.openxmlformats.org/drawingml/2006/table">
            <a:tbl>
              <a:tblPr/>
              <a:tblGrid>
                <a:gridCol w="2373480"/>
                <a:gridCol w="1741320"/>
                <a:gridCol w="1871640"/>
                <a:gridCol w="1728720"/>
              </a:tblGrid>
              <a:tr h="505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юдж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0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1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2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1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3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4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5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5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8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2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1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1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фицит (-),           Профицит 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Ы БЮДЖ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Organization Chart 7"/>
          <p:cNvGrpSpPr/>
          <p:nvPr/>
        </p:nvGrpSpPr>
        <p:grpSpPr>
          <a:xfrm>
            <a:off x="0" y="1341360"/>
            <a:ext cx="9143280" cy="5515200"/>
            <a:chOff x="0" y="1341360"/>
            <a:chExt cx="9143280" cy="551520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61960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71280" y="3547440"/>
              <a:ext cx="3960" cy="11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41956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200040" y="134136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ходы бюджета-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езвозмездные и безвозврат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оступления денежных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редств в бюджет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 налог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налоговым кодекс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доходы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Единый сельскохозяйствен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имущество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емель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Государственная пошлин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2000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е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еналоговых доход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законодательств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, получаемые от аренда  имущества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земли, находящихся в государственной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муниципальной собственност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 от продажи муниципальног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мущества и земельных участков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*Штрафы за нарушени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онодательств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4004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Безвозмездные поступления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из бюджето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вышестоящих уровней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чие поступления от организаций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Диаграмма 2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6709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ходы бюджета Юдинского сельского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836640"/>
          <a:ext cx="8642160" cy="5654520"/>
        </p:xfrm>
        <a:graphic>
          <a:graphicData uri="http://schemas.openxmlformats.org/drawingml/2006/table">
            <a:tbl>
              <a:tblPr/>
              <a:tblGrid>
                <a:gridCol w="2347920"/>
                <a:gridCol w="2081160"/>
                <a:gridCol w="2052720"/>
                <a:gridCol w="216036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здела (подраздел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(без учета условно утвержденны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7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4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24:07Z</dcterms:created>
  <dc:creator>aGaVVa_UTSetup</dc:creator>
  <dc:description/>
  <dc:language>en-US</dc:language>
  <cp:lastModifiedBy>Администратор</cp:lastModifiedBy>
  <dcterms:modified xsi:type="dcterms:W3CDTF">2019-12-16T16:37:45Z</dcterms:modified>
  <cp:revision>52</cp:revision>
  <dc:subject/>
  <dc:title>Администрация Сагуновского сельского поселения Подгоренского муниципального района Воронежской области</dc:title>
</cp:coreProperties>
</file>