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9A1D-E9E2-4CDF-84FE-9A5DAB42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0F5A-14E7-4976-B11A-85E17289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2BC8-FEEB-4458-80A5-CF586989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B874-B5E0-4B8A-B075-A634F8BF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5F6EF-1B95-4B9C-AFD2-269F23B1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A9F1D-A9EC-4338-B13D-9FB69217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ED979-23F3-4FAA-9FAC-B5D8E614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C231E-926A-4EF9-A738-D7E1BDDE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CF8A1-8F73-412F-9779-7870EF2F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F6F5B-17FA-4AEF-869C-505790BC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AF7D5-E1A1-48D8-8F4A-CEBF6F16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A7F9-1105-4053-AFCF-1157FD98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337C8-C1F2-4653-9D4A-AAD421D6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26B17-FFF2-4D2B-8ADE-0B011987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9583B-6F88-4871-84E1-2366F588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1479F-7C2B-4FC9-838C-904129D5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0BEAB-3BBB-442A-8302-48AB41FF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F6F1-E223-448A-BFFB-2894B322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5A35-76AF-484C-800A-71BDC098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7847-4E86-41B6-B0E8-EE55D344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26F8-A770-4DF9-92B9-50F7C74E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1CFF-26CB-42DC-8AA4-1DF35FE2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B0C3-616A-4F0C-9DB0-F65F0B1C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F52C-F26F-4C3F-BF10-437CDC0D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98F8-3F37-41BA-BB34-B30DE95992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651E-DA41-4D2D-930C-873B3EA0F1D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дминистрация Юдинского сельского поселения Подгоренского муниципального района Воронежской обла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1988640"/>
            <a:ext cx="6400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БЮДЖЕТ ДЛЯ ГРАЖДАН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то такое муниципальная программ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униципальная программа – система мероприятий, взаимоувязанных по задачам, срокам осуществления и ресурсам, направленных на достижение конкретных целей муниципальной политики в определенной сфере социально-экономического развития посел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целях повышения эффективности и результативности бюджетных расходов администрации Юдинского сельского поселения принято решение: формировать и исполнять расходную часть бюджета через реализацию одной муниципальной программы. Бюджет Юдинского сельского поселения на 20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20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годы – ЯВЛЯЕТСЯ ПРОГРАММНЫ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имуществом программного бюджета является распределение расходов не по ведомственному принципу, а по программам. Муниципальная программа имеет цель, задачи и показатели эффективности, которые отражают степень их достижения (решения), то есть действия и бюджетные средства, направленные на достижение заданного результата. При этом значение показателей является индикатором по данному направлению деятельности и сигнализирует о плохом или хорошем результате, необходимости принятия новых решений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униципальная программа «Организация деятельности администрации Юдинского сельского поселения Подгоренского муниципального района Воронежской области » на 2017-2019 год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125360"/>
          <a:ext cx="8291520" cy="5381640"/>
        </p:xfrm>
        <a:graphic>
          <a:graphicData uri="http://schemas.openxmlformats.org/drawingml/2006/table">
            <a:tbl>
              <a:tblPr/>
              <a:tblGrid>
                <a:gridCol w="1790640"/>
                <a:gridCol w="3113280"/>
                <a:gridCol w="1128600"/>
                <a:gridCol w="1130400"/>
                <a:gridCol w="1128600"/>
              </a:tblGrid>
              <a:tr h="76428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атус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именование муниципальной программы, подпрограммы, основного мероприят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том числе по годам реализации муниципальной программ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год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ыс. руб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го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ыс. руб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год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ыс. руб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униципальная программ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"Организация деятельности администрации Юдинского сельского поселения Подгоренского муниципального района Воронежской области на 201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201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годы"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733,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65,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53,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программа 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"Создание условий для обеспечения качественными услугами ЖКХ населения в  Юдинском сельском поселении"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2,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программа 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"Вопросы в области национальной экономики"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15,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3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программа 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"Защита населения и территории Юдинского сельского поселения от чрезвычайных ситуаций, обеспечение пожарной безопасности и безопасности людей на водных объектах"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,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программа 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"Финансовое обеспечение  переданных полномочий и исполнение полномочий по мобилизационной и вневойсковой подготовке"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956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8,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8,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дпрограмма 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"Обеспечение деятельности администрации Юдинского сельского поселения  Подгоренского муниципального района Воронежской области"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18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97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85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291600"/>
            <a:ext cx="8147160" cy="616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ТО ТАКОЕ «БЮДЖЕТ ДЛЯ ГРАЖДАН»?</a:t>
            </a:r>
            <a:br>
              <a:rPr sz="40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Бюджет для граждан» познакомит Вас с положениями бюджета основного финансового документа Администрации Юдинского сельского поселения на 20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год и плановый период 20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20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годов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ждый житель села является участником формирования бюджета с одной стороны, как налогоплательщик, наполняя доходы бюджета, с другой- он получает часть расходов как потребитель общественных услуг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раждане – и как налогоплательщики и как потребители общественных благ- должны быть уверены в том, что передаваемые ими в распоряжение государства средства используются прозрачно и эффективно, приносят конкретные результаты как для общества в целом, так и для каждой семьи, для каждого человека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ставленная информация предназначена для широкого круга пользователей и будет интересна и полезна как студентам, педагогам, врачам, молодым семьям, так и пенсионерам и другим категориям населения, так как бюджет муниципалитета затрагивает интересы каждого жителя поселения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НЦИП ПРОЗРАЧНОСТИ (ОТКРЫТОСТИ) БЮДЖЕТНОЙ СИСТЕМЫ РОССИЙСКОЙ ФЕДЕРАЦИИ ОЗНАЧА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2781000"/>
            <a:ext cx="83628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язательное опубликование в средствах массовой информации утвержденных бюджетов и отчетов об их исполнен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язательная открытость для общества и средств массовой информации бюджета, обеспечение доступа к информации на едином портале бюджетной системы Российской Федерации в сети «Интернет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абильность и преемственность бюджетной классификации Российской Федерации, а также обеспечение сопоставимости показателей бюджета отчетного, текущего и очередного финансового г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юджетный кодекс Российской Федерации, статья 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СТАВЛЕНИЕ ПРОЕКТА БЮДЖЕТА ЮДИНСКОГО СЕЛЬСКОГО ПОСЕЛЕНИЯ ОСНОВЫВАЕТСЯ Н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юджетном послании Президента Российской Федерац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гнозе социально-экономического развит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х направления бюджетной и налоговой полит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униципальных программ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юджет Юдинского сельского поселения на 2017 год и плановый период 2018 и 2019 годов сформирован в программном формат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елью бюджетной и налоговой политики на 20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год и плановый период 20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20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год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30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еспечение бюджетной устойчивости на 20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год и среднесрочную перспективу бюджета Юдинского сельского посел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ля достижения цели бюджетной политики предстоит реализовать комплекс мер, направленных н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342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ализацию мер по созданию условий для наращивания налогового потенциал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здание системы муниципальных програм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ормирование информационных ресурсов в целях прозрачности и открытости бюджетного процесса, для удовлетворения информационной потребности граждан и организац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ые параметры проекта бюджета Юдинского сельского поселения на 20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год и плановый период 20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20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годов.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905120"/>
          <a:ext cx="7715160" cy="3576600"/>
        </p:xfrm>
        <a:graphic>
          <a:graphicData uri="http://schemas.openxmlformats.org/drawingml/2006/table">
            <a:tbl>
              <a:tblPr/>
              <a:tblGrid>
                <a:gridCol w="2373480"/>
                <a:gridCol w="1741320"/>
                <a:gridCol w="1871640"/>
                <a:gridCol w="1728720"/>
              </a:tblGrid>
              <a:tr h="50364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юдж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год тыс.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год тыс.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1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год тыс.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ходы, 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733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06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37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логовые и неналогов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49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42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45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езвозмездные поступл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83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63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92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асходы, 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733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06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37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ефицит (-),           Профицит (+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ОХОДЫ БЮДЖЕ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" name="Organization Chart 7"/>
          <p:cNvGrpSpPr/>
          <p:nvPr/>
        </p:nvGrpSpPr>
        <p:grpSpPr>
          <a:xfrm>
            <a:off x="0" y="1341360"/>
            <a:ext cx="9143280" cy="5515200"/>
            <a:chOff x="0" y="1341360"/>
            <a:chExt cx="9143280" cy="5515200"/>
          </a:xfrm>
        </p:grpSpPr>
        <p:cxnSp>
          <p:nvCxnSpPr>
            <p:cNvPr id="97" name="_s1028"/>
            <p:cNvCxnSpPr>
              <a:stCxn id="98" idx="0"/>
              <a:endCxn id="99" idx="2"/>
            </p:cNvCxnSpPr>
            <p:nvPr/>
          </p:nvCxnSpPr>
          <p:spPr>
            <a:xfrm flipV="1" rot="16200000">
              <a:off x="5619600" y="2498760"/>
              <a:ext cx="1103400" cy="32007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0" name="_s1029"/>
            <p:cNvCxnSpPr>
              <a:stCxn id="101" idx="0"/>
              <a:endCxn id="99" idx="2"/>
            </p:cNvCxnSpPr>
            <p:nvPr/>
          </p:nvCxnSpPr>
          <p:spPr>
            <a:xfrm flipV="1">
              <a:off x="4571280" y="3547440"/>
              <a:ext cx="3960" cy="110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2" name="_s1030"/>
            <p:cNvCxnSpPr>
              <a:stCxn id="103" idx="0"/>
              <a:endCxn id="99" idx="2"/>
            </p:cNvCxnSpPr>
            <p:nvPr/>
          </p:nvCxnSpPr>
          <p:spPr>
            <a:xfrm flipH="1" flipV="1" rot="5400000">
              <a:off x="2419560" y="2498760"/>
              <a:ext cx="1103400" cy="32007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9" name="_s1031"/>
            <p:cNvSpPr/>
            <p:nvPr/>
          </p:nvSpPr>
          <p:spPr>
            <a:xfrm>
              <a:off x="3200040" y="1341360"/>
              <a:ext cx="2742840" cy="2206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Доходы бюджета-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безвозмездные и безвозврат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поступления денежных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средств в бюджет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_s1032"/>
            <p:cNvSpPr/>
            <p:nvPr/>
          </p:nvSpPr>
          <p:spPr>
            <a:xfrm>
              <a:off x="0" y="4650480"/>
              <a:ext cx="2742840" cy="2206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Налоговые доходы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Поступления от уплаты налогов,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установленных налоговым кодексом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Российской федерации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Налог на доходы физических лиц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Единый сельскохозяйственный налог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Налог на имущество физических лиц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Земельный налог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Государственная пошлина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_s1033"/>
            <p:cNvSpPr/>
            <p:nvPr/>
          </p:nvSpPr>
          <p:spPr>
            <a:xfrm>
              <a:off x="3200040" y="4650480"/>
              <a:ext cx="2742840" cy="2206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Неналоговые доходы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Поступления от уплаты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неналоговых доходов,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установленных законодательством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Российской Федерации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Доходы, получаемые от аренда  имущества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и земли, находящихся в государственной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и муниципальной собственности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Доходы от продажи муниципального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имущества и земельных участков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*Штрафы за нарушение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законодательства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_s1034"/>
            <p:cNvSpPr/>
            <p:nvPr/>
          </p:nvSpPr>
          <p:spPr>
            <a:xfrm>
              <a:off x="6400440" y="4650480"/>
              <a:ext cx="2742840" cy="2206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Безвозмездные поступления</a:t>
              </a: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Поступления из бюджетов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вышестоящих уровней,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Прочие поступления от организаций 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ahoma"/>
                </a:rPr>
                <a:t>и физических лиц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Диаграмма 2"/>
          <p:cNvGraphicFramePr/>
          <p:nvPr/>
        </p:nvGraphicFramePr>
        <p:xfrm>
          <a:off x="200160" y="138240"/>
          <a:ext cx="8670960" cy="651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Диаграмма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138240"/>
                    <a:ext cx="8670960" cy="65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4"/>
          <p:cNvGraphicFramePr/>
          <p:nvPr/>
        </p:nvGraphicFramePr>
        <p:xfrm>
          <a:off x="324000" y="333360"/>
          <a:ext cx="8424720" cy="6191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33360"/>
                    <a:ext cx="8424720" cy="61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ходы бюджета Юдинского сельского посел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50920" y="836640"/>
          <a:ext cx="8642160" cy="5608440"/>
        </p:xfrm>
        <a:graphic>
          <a:graphicData uri="http://schemas.openxmlformats.org/drawingml/2006/table">
            <a:tbl>
              <a:tblPr/>
              <a:tblGrid>
                <a:gridCol w="2347920"/>
                <a:gridCol w="2081160"/>
                <a:gridCol w="2052720"/>
                <a:gridCol w="2160360"/>
              </a:tblGrid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раздела (подраздела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7 год тыс.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8 год тыс.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9 год тыс.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(без учета условно утвержденны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33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65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53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43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97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85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5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2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87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2T13:24:07Z</dcterms:created>
  <dc:creator>aGaVVa_UTSetup</dc:creator>
  <dc:description/>
  <dc:language>en-US</dc:language>
  <cp:lastModifiedBy>Елена </cp:lastModifiedBy>
  <dcterms:modified xsi:type="dcterms:W3CDTF">2017-02-16T05:49:25Z</dcterms:modified>
  <cp:revision>38</cp:revision>
  <dc:subject/>
  <dc:title>Администрация Сагуновского сельского поселения Подгоренского муниципального района Воронежской области</dc:title>
</cp:coreProperties>
</file>